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5.png" ContentType="image/png"/>
  <Override PartName="/ppt/media/image7.pct" ContentType="image/x-pict"/>
  <Override PartName="/ppt/media/image9.png" ContentType="image/png"/>
  <Override PartName="/ppt/media/image22.pct" ContentType="image/x-pict"/>
  <Override PartName="/ppt/media/image6.pct" ContentType="image/x-pict"/>
  <Override PartName="/ppt/media/image11.jpeg" ContentType="image/jpeg"/>
  <Override PartName="/ppt/media/image3.pct" ContentType="image/x-pict"/>
  <Override PartName="/ppt/media/image10.pct" ContentType="image/x-pict"/>
  <Override PartName="/ppt/media/image21.jpeg" ContentType="image/jpeg"/>
  <Override PartName="/ppt/media/image5.pct" ContentType="image/x-pict"/>
  <Override PartName="/ppt/media/image4.pct" ContentType="image/x-pict"/>
  <Override PartName="/ppt/media/image23.pct" ContentType="image/x-pict"/>
  <Override PartName="/ppt/media/image20.jpeg" ContentType="image/jpeg"/>
  <Override PartName="/ppt/media/image15.pct" ContentType="image/x-pict"/>
  <Override PartName="/ppt/media/image19.jpeg" ContentType="image/jpeg"/>
  <Override PartName="/ppt/media/image2.pct" ContentType="image/x-pict"/>
  <Override PartName="/ppt/media/image18.pct" ContentType="image/x-pict"/>
  <Override PartName="/ppt/media/image17.pct" ContentType="image/x-pict"/>
  <Override PartName="/ppt/media/image14.jpeg" ContentType="image/jpeg"/>
  <Override PartName="/ppt/media/image24.pct" ContentType="image/x-pict"/>
  <Override PartName="/ppt/media/image1.pct" ContentType="image/x-pict"/>
  <Override PartName="/ppt/media/image8.jpeg" ContentType="image/jpeg"/>
  <Override PartName="/ppt/media/image16.pct" ContentType="image/x-pict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83A2-B9C9-4CCB-AC0A-F2BC50D28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HANGE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=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bees have genomic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se are genetically identical animals and this is controlled in embry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Perl - simple scripting language based tools availabel for free and often used in bioinfor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alignment for a gene without any clon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d residues are shown by dots and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GL = perl libraries specific for comparative genom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ST a simple alignment tool nearly ubiquitous in the world.  TBLASTN takes protein and search for all the possible translations in a nulcotide sequence like a new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 language also import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es have waggle d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s use solar visual cues to navigate as 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=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currently working in the model organism D. melanogaster as well as several closely related Drosophi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0 The Dmel genome was complete in a collaboration between Celera Genomics and the Berkeley Drosophila Genome Project, headed by Gerry Ru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an extensive re-annotation of all gene models was undertaken.  In collaboration with FlyBase 10 people, including myself, re-annotated all of the gene models in Dm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ly published on, increasingly put in databases, many public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nservation of genes and orthology, comaprative genomic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is very deep, some are only f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ess is another example - singl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date is a cAMP singaling system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ptera also social,  140 MYA termites the first social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 it out.  I am looking for genes and regulatory motifs affectin behavior in eusocial in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s lots of work, but nothing gen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natural fistory ans assay for all of thes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genetic, no absolute hierarchy… a lot lik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genetics is the dominat regulation of eusocial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 JH and temperature make the switch to different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hem through the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polyphe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NOTHNG IS KNOW OF DOWNSTREAM EVENTS after JH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s that are controlled epigenetically within an individual as opposed to between c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3E1-84DD-4AB8-AE94-3B3916A9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C44-AE0A-49EA-A8DD-5BF8A798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F1C-76BB-4D02-AA23-7CBBFFCF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36F-7394-48CB-BD44-CF9BA38D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0F8-A552-40FB-95B2-0A97681A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6D0-60CB-4BA8-BA5D-13235F18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503-C7D9-44FF-89F1-1E4A3DFB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799-97F9-455F-828A-64B9F150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AC3-6CEB-4E99-A674-03EFF0EE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805-4099-4922-9265-23E815AB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F5E-046B-4EF6-AE77-29C1FF72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D64-7268-4DFA-AA9F-DAD0840B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A14E-A11D-4B80-8CA7-55C3EE3E2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hyperlink" Target="javascript:AL_get(this,%20&apos;jour&apos;,%20&apos;Science.&apos;);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IBO: A Social Insect Behavior Ontology for Ants and Be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7760" y="327636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D. Smith Ph.D.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stant Professor Bioinformat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 Francisco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 Francisco, CA 941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ithcd@sfs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sophila Heterochromatin Genome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wrence Berkeley National Lab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keley, CA 94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dhgp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smith@fruitfly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62160" y="5029200"/>
            <a:ext cx="170964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320" y="3753000"/>
            <a:ext cx="30477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orker &amp; Queen Bees Express Unique Gene Sub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75040" y="685800"/>
            <a:ext cx="5268960" cy="5448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69960" y="6247440"/>
            <a:ext cx="5590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eler et. al. Expression profiles during honeybee caste determ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omeBiology2000, 2(1):research0001.1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0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279440"/>
            <a:ext cx="3809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ally identical animals exhibit widely varied gene expression pro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ous caste specific genes have been identified in bees, ants &amp; ter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letion of ‘beenome’ many more behavioral microarray expts.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147840"/>
            <a:ext cx="9182160" cy="2186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dentification of Putative Ortho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1066680"/>
            <a:ext cx="876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LASTN approach using the Comparative Genomics Library (CG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‘multiple-hit’ used to determine orthologous ex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logous introns inferred when both flanking exons ar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27273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409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Behaviors can be linked to SN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ized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sue Enemy 10-30x fu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eactive to color,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10x st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ngage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defense peri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mparative annotation we can link ‘Africanized’ SNPs to gene and regulatory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Dopamine receptor mu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D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erotonin promoter polymorph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Slc6a4,dS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199680" y="657360"/>
            <a:ext cx="6016680" cy="5517000"/>
            <a:chOff x="3199680" y="657360"/>
            <a:chExt cx="6016680" cy="5517000"/>
          </a:xfrm>
        </p:grpSpPr>
        <p:sp>
          <p:nvSpPr>
            <p:cNvPr id="97" name=""/>
            <p:cNvSpPr/>
            <p:nvPr/>
          </p:nvSpPr>
          <p:spPr>
            <a:xfrm>
              <a:off x="3199680" y="2590920"/>
              <a:ext cx="196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Diseng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94360" y="6573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erce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79240" y="12034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83760" y="1752840"/>
              <a:ext cx="207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cr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Iden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6120" y="26672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le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6400" y="2895840"/>
              <a:ext cx="155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364176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40960" y="4480200"/>
              <a:ext cx="207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cr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Iden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5360" y="46483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re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2080" y="5775480"/>
              <a:ext cx="125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TTACK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0120" y="990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0120" y="1524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0120" y="24386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0120" y="304812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0120" y="4038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181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629400" y="4876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419360" y="990720"/>
              <a:ext cx="24382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876560" y="1447920"/>
              <a:ext cx="20574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181480" y="2210040"/>
              <a:ext cx="1447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257440" y="281952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086240" y="297180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267080" y="3124080"/>
              <a:ext cx="1524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5028840" y="3048120"/>
              <a:ext cx="1981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647960" y="2971440"/>
              <a:ext cx="24382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5105520"/>
              <a:ext cx="6858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105520" y="289548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3886200" y="3124080"/>
              <a:ext cx="2819520" cy="281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172200" y="3276720"/>
              <a:ext cx="763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8520" y="3276720"/>
              <a:ext cx="10666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8520" y="3276720"/>
              <a:ext cx="106668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74920" y="640080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ed from Breed &amp; H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. Annu. Rev. Entolom. 49:271-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eeding the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124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only 100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3500 behaviors in ants and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from Drosophila GO behavior terms and bee/ant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46640" y="1295280"/>
            <a:ext cx="3030480" cy="5410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510240" y="1739880"/>
            <a:ext cx="26337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Link Behaviors to ‘Language’ Gen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581280" cy="342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320" y="914400"/>
            <a:ext cx="39621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s have more chemical producing glands than any known org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s can chemically inhibit fertility through col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s can call ‘group alarm’ for attack &amp;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can communicate novel information to others back and forth (i.e. tea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Behaviors to 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‘Mortician Ants’ respond to oleate from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5480" y="6613560"/>
            <a:ext cx="29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 Holldobler  &amp; Wilson, The Ants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62520" y="4343400"/>
            <a:ext cx="49352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Use a Complex Chemical Language that is Genetically Defin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s an important aspect of social evolution across ta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s Can ‘Read’ Hundreds of 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receptor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genic Am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octapamine involved in honeybee ag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genes ident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5480" y="6613560"/>
            <a:ext cx="29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 Holldobler  &amp; Wilson, The Ants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76840" y="1066680"/>
            <a:ext cx="418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emiochemical &amp;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6095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s_from relationships need to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168880" cy="429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6035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nking Behavior, Anatomy, &amp; Semio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203480"/>
            <a:ext cx="723924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Present &amp; Futur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terms &amp; definition from honeybee and ant literature &amp;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 of behaviors associated to genes discovered in behavioral microarray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of ‘derives_from’ relationships for semiochemicals and ana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of ‘precedes’ and ‘follows’ relationships for behavior actions (e.g. m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 of Drosophila anatomy onotology for honeybees and 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cross-products with other ontologies such as CHEBI an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osophila Heterochromatin Genome Project (DH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 Mungall - Databases,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ole Washington - P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zanna Lewis- Group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Richter - OBO-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l Tsutsui - UC Ir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Elsik - Bee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057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</a:rPr>
              <a:t>Drosophila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</a:rPr>
              <a:t>     melanog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of experiment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’ sequenced 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well-characterized behavior &amp; other phen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 &amp; other large scale data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48160" y="0"/>
            <a:ext cx="46958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24280" y="638496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ms &amp; Venter et. 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ienc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0 Mar 24;287(5461):2185-9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06920" y="3672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19807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Lucida Calligraphy"/>
              </a:rPr>
              <a:t>fin</a:t>
            </a:r>
            <a:br>
              <a:rPr sz="24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5715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Genes Often Very Conserved in Metaz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ye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lassic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yes in flies, m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Blindness (Aniridi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oh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a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MP sign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SH = odorant re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&amp;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nce = cAMP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b Development (Homeo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4467240"/>
            <a:ext cx="3276720" cy="2390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52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867280" y="2057400"/>
            <a:ext cx="32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Cooperativity: </a:t>
            </a:r>
            <a:r>
              <a:rPr b="0" i="1" lang="en-US" sz="3300" spc="-1" strike="noStrike">
                <a:solidFill>
                  <a:srgbClr val="000000"/>
                </a:solidFill>
                <a:latin typeface="Arial Rounded MT Bold"/>
              </a:rPr>
              <a:t>D. melanogaster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i="1" lang="en-US" sz="3300" spc="-1" strike="noStrike">
                <a:solidFill>
                  <a:srgbClr val="000000"/>
                </a:solidFill>
                <a:latin typeface="Arial Rounded MT Bold"/>
              </a:rPr>
              <a:t>dunce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 gene involved in learning &amp; group behavi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MP phosphodiest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Aggregation’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roup advantage in finding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inette &amp; Robichon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s Brain Behav. 2004 Feb;3(1):39-5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overexpressed on worker bees relative to queen in b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dice &amp; Pereira. Insect Molecular Biology (2006) 15 (1), 3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tholog &amp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-li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s related to schizophrenia in human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ar &amp; Morteous. Science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Vol.310. no. 5751, pp. 11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5812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882720"/>
            <a:ext cx="6724800" cy="6584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Numerous Insect Genomes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11600" y="6400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5181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Are Overdue for Genomic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Natural History &amp; Litera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Assays Already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Epigenet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Socia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use genetic, genomic, phenotyp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al Insect Similarities to Hum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t global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ry, Policin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“The Ants” E. O Wil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eller &amp; Schultz. Science, v281:20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ks &amp; Richardson. Nature. v439:1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6280" y="4846680"/>
            <a:ext cx="227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11,500 Ant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25,000 B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2800 Termit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800600" y="1295280"/>
            <a:ext cx="4368600" cy="3376440"/>
            <a:chOff x="4800600" y="1295280"/>
            <a:chExt cx="4368600" cy="337644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4800600" y="1295280"/>
              <a:ext cx="335916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20320" y="4120920"/>
              <a:ext cx="1748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imaldie &amp; Eng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olution of the Ins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mbridge University P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Differeniate into Castes with Distinct Behaviors &amp; Shap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46800" y="6400800"/>
            <a:ext cx="280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Credit : Amy Beaton, Rubin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dgp.org/cgi-bin/ex/insitu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33920" y="4648320"/>
            <a:ext cx="2666880" cy="212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2667240" cy="2155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social Hall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on of labor- Workers, Soldier, Queen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ile Castes (not req’d)- Single &amp; Multiple Queen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generations lives in nest - Older generations care for yo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behavi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tically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social behavior has arisen many times in different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tic predisposition, but no ‘hard-corded’ ca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tes are temporally regulated in som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is epigenetically reg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ally identical individuals express different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aste Programming Depend on Hormones &amp; Environment C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35000" y="1095480"/>
            <a:ext cx="7956720" cy="52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768920" y="6308640"/>
            <a:ext cx="436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bouheif</a:t>
            </a:r>
            <a:r>
              <a:rPr b="1" lang="en-US" sz="1000" spc="-1" strike="noStrike" baseline="30000">
                <a:solidFill>
                  <a:srgbClr val="333333"/>
                </a:solidFill>
                <a:latin typeface="Arial"/>
              </a:rPr>
              <a:t> &amp;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Wr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Evolution of the Gene Network Underlying Wing Polyphenism in 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Science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12 July 2002: Vol. 297. no. 5579, pp. 249 - 2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92200" y="638496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H = Juvenile Horm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overgent Behaviors in Ants &amp; Be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900000"/>
            <a:ext cx="70866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8:56:15Z</dcterms:created>
  <dc:creator>Christopher Smith</dc:creator>
  <dc:description/>
  <dc:language>en-US</dc:language>
  <cp:lastModifiedBy>Christopher Smith</cp:lastModifiedBy>
  <cp:lastPrinted>2006-03-28T09:47:35Z</cp:lastPrinted>
  <dcterms:modified xsi:type="dcterms:W3CDTF">2006-12-01T22:56:03Z</dcterms:modified>
  <cp:revision>536</cp:revision>
  <dc:subject/>
  <dc:title>PowerPoint Presentation</dc:title>
</cp:coreProperties>
</file>